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6FB-FF0F-46F2-8D46-CA0134E2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933-054C-4F6E-B79F-7DAC63E1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378-1713-4B2E-A60D-28204D55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CA4-AB35-4A61-9A0E-8E1B22C9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C28-A02B-4935-9E1A-D07460A1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27F-71A1-40AD-B373-CAF81F86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1D6-1C17-4227-8605-506DC656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B46-7458-48A4-A854-32330FF1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DF0-FF78-4F16-86C4-D22F050E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0A2-CD48-4C17-9985-75305641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C6C-3A98-4B30-8E37-7A278D3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617-4694-4784-9C39-E3A9D9B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097E-43BD-4AC0-850E-296D45C8C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Systems Using Eli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3760" cy="147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638680" y="2743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Are they lined u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Number th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36232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3352680"/>
            <a:ext cx="3429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Does either variable cancel if you add the equ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add and solve for the remaining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,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51814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Solve for the other variable and write the answer 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6338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320" y="6400800"/>
            <a:ext cx="4952880" cy="36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3716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dding or Subtracting to Solv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ultiplying First to Solv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9120" y="76212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Number th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4520" y="12952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Are they lined u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75248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Does either variable cancel if you add the equ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add and solve for the remaining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f no, multiply one or both of the equations by something to make one of the variables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4038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Solve for the other variable and write the answer 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6280" y="57294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440" y="13716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4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2362320" cy="453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520" y="1271520"/>
            <a:ext cx="2209680" cy="938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09480" y="6172200"/>
            <a:ext cx="243864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7772400" cy="124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477120" y="1752480"/>
            <a:ext cx="10666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943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1814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657600"/>
            <a:ext cx="7391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lain when it’s best to solve a system using elimination, and when it’s best to use substit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2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5257800" cy="1130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520" y="4343400"/>
            <a:ext cx="51814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162920" cy="112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00800" y="1600200"/>
            <a:ext cx="8380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495288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7162920" cy="120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80880" y="4724280"/>
            <a:ext cx="8458200" cy="363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5440320"/>
            <a:ext cx="86868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320" y="162072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2209680"/>
            <a:ext cx="2286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9436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8288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ultiplying First to Solv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9120" y="76212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Number th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04520" y="12952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Are they lined u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175248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Does either variable cancel if you add the equ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add and solve for the remaining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f no, multiply one or both of the equations by something to make one of the variables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38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Solve for the other variable and write the answer 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6280" y="57294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39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808200"/>
            <a:ext cx="3581640" cy="258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880" y="1295280"/>
            <a:ext cx="2514600" cy="1117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4440" y="13716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3520" y="6181560"/>
            <a:ext cx="25905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6172200" cy="895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10080" y="1371600"/>
            <a:ext cx="9144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6553080" cy="660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85800" y="3048120"/>
            <a:ext cx="6324480" cy="68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48640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80880" y="5773680"/>
            <a:ext cx="830592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305920" cy="122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66880" y="2362320"/>
            <a:ext cx="24386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72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54:40Z</dcterms:created>
  <dc:creator>Susannah Graham</dc:creator>
  <dc:description/>
  <dc:language>en-US</dc:language>
  <cp:lastModifiedBy>Susannah Graham</cp:lastModifiedBy>
  <dcterms:modified xsi:type="dcterms:W3CDTF">2009-08-04T21:32:24Z</dcterms:modified>
  <cp:revision>4</cp:revision>
  <dc:subject/>
  <dc:title>Lesson 7.3 Solving Systems Using Elimination</dc:title>
</cp:coreProperties>
</file>